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58E-5E9B-4ED9-A34A-7F560099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C5A-E31F-4DF2-95C1-EDD6F4B2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726-1F75-4838-9FEA-C7A822FB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5E7-0411-4AED-9F23-DE3D879B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2B3-FCA1-43DB-A707-B5D49A63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E56-09B8-4A69-91BE-B2F94343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732-13E7-40E4-96C7-8E452680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6B9-3191-4371-B76B-37E87D3F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A5D-0AD3-4B28-ADD3-FDC013D3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6A4-6370-47E3-862D-E51F2504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A9C-06FF-492E-823A-95ABF4FD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B07-D66F-43DD-A15A-F5ED7648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CFD5-8385-42DD-8E14-C0A7F3173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cc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orte"/>
              </a:rPr>
              <a:t>Culture Of Russ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ow to Survive in a Russian House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Before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e on time, no more than 15 minutes later than inv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outdoor shoes, you may be given slippers to 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ss well, clothes that you might wear to the office, dressing well shows respect for your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 to be treated with respect and ho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help to the hostess with the preparation or clearing when the meal is served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During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Manners are necessary, the fork is held in the left hand and the knife in the right hand while 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ldest or most honored guest is served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begin eating until the host invites you to  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helpings are ur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n pour drinks for women next to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et up until you are invited to leave th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Gift Giving Etiqu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es and friends give gifts on birthdays, New Year, and Orthodox Christ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invited to dinner or meal, bring a small g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guests bring f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ive yellow f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give gifts to a baby until after the baby is born. It is bad luck to do so so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ns often protest against gifts out of politeness, but if you offer the gift again afterwards, it will usually be 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elicaci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meals and delicacies ofte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cht – soup made from b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chi – a type of soup made of cabb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roshki – meat styled like turn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linners – a type of rounded pa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ier – delicacy – eggs from the Sturgeon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Cred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nformation by Liam Ro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Typed by Carmen Che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Designed by Carmen Che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With help from Anthony F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8:33Z</dcterms:created>
  <dc:creator> </dc:creator>
  <dc:description/>
  <dc:language>en-US</dc:language>
  <cp:lastModifiedBy> </cp:lastModifiedBy>
  <dcterms:modified xsi:type="dcterms:W3CDTF">2010-12-15T18:26:37Z</dcterms:modified>
  <cp:revision>13</cp:revision>
  <dc:subject/>
  <dc:title>Slide 1</dc:title>
</cp:coreProperties>
</file>